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318-2184-4CBF-8AE2-7AA40022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D86-4E65-47FB-87AC-5ED0B116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E4B-2203-47FB-A6BD-E4A29449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CA2-7223-4811-AB5B-AD4DA355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F034-2FB4-44FF-9DBB-840E38A8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686F-697A-44B7-8FC1-2682F73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7085-B9CC-4B3F-B8F1-F48DE165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67F2-EA48-485C-A074-8BFDF165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D53C-BF1C-4B4D-835B-E3303BE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0466-513F-499B-B24D-DE855833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9C2E-3F0A-4C91-825F-3F99F08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477-ADA2-433D-89C7-4DA6AA7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D7FE-A83C-4BAC-A647-A11DEA6A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9189-3352-4173-ABEE-A5BC8B9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6747-9296-4924-AB2B-7DA50E6F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FFAA-9210-4191-B4F6-D880C286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3383-2FAB-44C2-917F-16734DF8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EAD-21B9-431B-9853-FDCD7C3A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173-EFAC-4FE0-8F73-59EF8FD2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D78-A4B6-44BD-94A6-7C5B316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E84-348E-4092-AA7E-0F1ED759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A4F-5D57-400C-8378-D5825F86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85C-1ECE-4D4F-BDC0-6B595A3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51E-6AAE-43A5-B835-4D6FB58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FFCC-081D-43B1-B6A3-0D3F64278FAF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310-835F-415E-862A-C23BFBB241FA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bcbcb"/>
                </a:solidFill>
                <a:latin typeface="Times New Roman"/>
              </a:rPr>
              <a:t>Temel Cimnastik Duruşları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3657240"/>
            <a:ext cx="70106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Bacaklar kapalı ayakta duruş: Bacaklar bitişik, kollar yanlarda gövde­ye paralel, baş ve gövde dik olarak yapılan duruştu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 Bacaklar açık ayakta duruş: Ayaklar omuz genişliğinde açık, kollar gövdeye paralel, baş ve gövde dikti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Çömelik duruş: Baş ve gövde dik, vücut ağırlığı ayak uçlarında çömelme hareketidir. Kalça ve topuklar bitişik kollar gövdeye paraleldi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 Dört ayak duruşu: Çömelik duruşta eller omuz hizasında yere dayalı­dır. Dizler kolların arasında yer alır (Şekil 17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- Diz üstü duruş: Bacaklar dizlerden bükülü, ayak bilekleri gergin olarak yere dayalıdır. Üst bacak ve gövde dik, kollar yanlarda vücuda paraleldir </a:t>
            </a:r>
            <a:r>
              <a:rPr b="1" i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i-züstü duruştayken, bir bacağın öne alınarak dizden dik olarak bükülü yere ba­sış ise "tek dizüstü duruş "tur) (Şekil 18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7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6933960" cy="364788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-  Planör duruşu: Ağırlık tek bacak  üzerinde diğer bacak gergin olup yukarıya kaldırılır, kollar yanlarda açık ve gövde ile yere paraleldir (Şekil 27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- Kartal duruşu: Bacaklar açık ayakta duruşta gövde öne bükülerek ye­re paralel durumuna getirilmesidir. Kollar omuz hizasında açık ve gergin yere paraleldir (Şekil 28). 20-  Küçük köprü: Dizler yerde olmak suretiyle, ellerle arkaya uzanıp dayanmadır (Şekil 29)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010280" cy="363384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-  Büyük köprü: Dayanak noktaları ayaklar ve arkaya uzanan ellerdir (Şekil 30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34320" cy="28080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7010640" cy="35067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 Diz üstü oturuş: Diz üstü duruştayken, topuklar üzerine oturuştu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- Bank duruşu: Diz üstü duruştan kollar önde yere dayanır. Üst bacak ve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lar yere dik birbirine paraleldir (Şekil 19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s bank duruşu: Bank duruşunun tersidir. Sırt; yere, göğüs; yukarı dö­nüktür. Kollar ve alt bacaklar birbirine paralel yere dik, ayak ve avuç içleri yere dayalı, baş arkada serbesttir (Şekil 20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317988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- Cephe duruşu: Bank duruşunda bacaklar arkaya gergin uzatılarak ayak uçları yere dayanır. Kollar yere dik, vücut gergindir (Şekil 21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s cephe duruşu: Cephe duruşunun vücudun önü yukarıya, arkasının yere dönük olma durumudur. Ayak bilekleri gergin, topuklar yerde, eller ayak­ların doğrultusunda yere dayalıdır (Şekil 22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6934320" cy="259884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n cephe duruşu: Cephe durumunun yan olarak tek kol ve tek ayağın dış yüzüne dayanılarak yapılmasıd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  Uzun oturuş: Gövde dik, kalça yerde, bacaklar ise öne gergin olarak uzatılır. Kollar yanlarda gövdeye paraleldir (Şekil 23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çık bacak uzun oturuş: Bacaklar yanlara "V" şeklinde açıl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el oturuşu: Uzun oturuşta, bir bacağın bükülüp arkaya alınmasıd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 Bacaklar bükülü oturuş: Uzun oturuşta, her iki bacağın dizlerden bükülerek tabanların yere dayanmasıd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- Çakı duruşu: Uzun veya bacaklar bükülü oturuşta, bacakların gergin olarak 45 derece yukarıya kaldırılmasıdır. Kollar dirseklerden hafif bükülü, el­ler kalça yanında yere dayalı veya yanlarda omuz hizasında açıkt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- Bağdaş oturuş: Açık bacak uzun oturuşta, bacakların dizlerden bükü­lerek önde çaprazlanmasıdır. Gövde dik, kollar yanlarda serbestti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400800" cy="36720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-  Sırtüstü yatış: Bacaklar bitişik ve gergin, gövde sırtüstü yatar durum­dadır. Avuçlar yerde, kollar vücudun iki yanında gergind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- Yüzüsütü yatış: Dayanak yüzeyi vücudun ön kısmıdır. Kollar dirsek­lerden bükülü, eller üstüste konularak çene altına yerleştiril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- Yan yatış: Sağa ve sola olup, dayanak yüzeyi vücudun yanı ve gergin bulunan bacaklardır. Yatış yönünün kolu yan-yukarı uzatılmış ve baş altına des­tek olarak konmuştur. Diğer kol gövdenin yanında gergind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 Mum duruşu: Sırtüstü yatışta, ellerle vücut yanlardan kavranır, bacak­lar gergin olarak yukarı kaldırılırken dirseklere dayanarak ağırlık omuzlara ak­tarılır. Dayanak yüzeyi omuzlar ve üst kol olup, vücut ayak uçlarına kadar ger­gin ve yere diktir (Şekil 24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- Hamle duruşu: Küçük adımla yapılan hamle hareketine küçük hamle, büyük adımla yapılan harekete derin hamle denir. Hamle duruşları: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 Öne hamle duruşu: Öne bir adım alınırken bacak dizden bükülür. Göv­de arkadaki gergin bacağın doğrultusunda olup, ağırlık öndeki bükülü bacak üzerindedir. Kollar yanlarda serbesttir (Şekil 25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 Yana hamle: Öne hamlenin sağa veya sola uygulanışıdır. Ayak uçları ve diz adım alınan yönü gösterir, gövde karşıya dönüktü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 Geriye hamle: Geriye adım alınır, vücut ağırlığı arka bacak üzerinde olup öne uzatılan bacak gergind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- İleri hamle: Adımların 45 derece ileri sağ ve sol yönlere alınması ile yapılan hamledir. Ayak ucu ve diz adım yönünü gösterir </a:t>
            </a:r>
            <a:r>
              <a:rPr b="1" i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amle duruşlarında topuklar yerden kaldırılmaz.) (Şekil 26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2:44:23Z</dcterms:created>
  <dc:creator>Alliance</dc:creator>
  <dc:description/>
  <dc:language>en-US</dc:language>
  <cp:lastModifiedBy>kerem</cp:lastModifiedBy>
  <dcterms:modified xsi:type="dcterms:W3CDTF">2008-03-22T16:20:55Z</dcterms:modified>
  <cp:revision>5</cp:revision>
  <dc:subject/>
  <dc:title>Temel Cimnastik Duruşları </dc:title>
</cp:coreProperties>
</file>