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0EE-EA7F-4A25-B104-1D9C834E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A05-ECC8-4F6E-8EF7-9388D12C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D8E-B8AC-44AB-90FF-85FAA641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7D1-16BD-4017-9D2D-FF4664C9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FDBD-ABA2-4B2E-A689-8916B611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BCA-0A5B-43B0-9A04-84B2D27E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7610-5DCC-4B0A-AA5F-C971F0B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0928-CB88-4368-9B7E-33384C5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0FD4-DF98-48E9-8170-BE68ED1A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82E4-9BA5-4DB5-8F66-DB59909E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68C7-6658-4B0D-98B3-048CA6F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151-50CE-43C1-B6BF-CBA9ECEC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1579-7FBD-4392-B417-FEF1389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DA99-9839-469D-B2BF-E426914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34EC-812B-46B1-B728-209AD0F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0E76-7CF7-49B1-AB62-75643384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04C8-CAFD-4D5E-9FE4-89E143CC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65D-A5ED-4A27-A265-367532F8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C26-6275-4B55-A5AB-C8BB522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39E-A99D-4101-9607-6D6333F5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4A7-7425-4000-8DA9-5D6B3E14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786-77D1-4CD2-90C6-98C7C4D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DFB-1CF0-49C5-B7C8-6184532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D38-007F-4CA9-B837-5505EC1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09E-DD59-4E3C-926C-3D4BD83A310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93FB-582B-4A5A-8D44-629C37BDEA1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OP TUT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09640" y="3005280"/>
          <a:ext cx="421308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3005280"/>
                    <a:ext cx="42130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ir oyuncu tarafından, durarak, yürüyerek, koşarak ve sıçrama suretiyle, yerde yuvarlanan, potada seken ve pas olarak gelen topların tek veya çift elle alınıp kontrol altına getirilmesine top tutma den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Çengel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16280" y="2214720"/>
          <a:ext cx="224784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2214720"/>
                    <a:ext cx="224784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Zor durumlarda pivot oyuncusu atış yapamazsa, potaya toplu dalışlarda ve oyunu süratli olarak başlatmak için bu pası kullanı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378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aslaşma Sırasında Dikkat Edilmesi Gereken Hususl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yuncu pas vereceğini belli et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 verilecek oyuncu müsait olmadıkça top sürme kesilme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opu alacak oyuncuya savunmanın uzağına doğru pas veril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ahayı enine geçen paslardan kaçınılmalıd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ınızın yerine ulaşacağından şüpheli iseniz o pası hiç atmayı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ntrenör iyi pas atan oyuncuyu motive etmeli ve ödüllendir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 yaparken vücut dengeli olmalıd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 alacak oyuncuların her pası alırken hareket etme zorunluluğu vard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İyi bir paslaşma için her tarafın gözle görülmesi şartt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r pas için mutlaka aldatma yapı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ütün pasların canlı ve gereken sertlikte atılmasına dikkat edi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ümkünse takım arkadaşlarınızla göz temasında bulununuz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3076560"/>
            <a:ext cx="7958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opun bir oyuncu tarafından çeşitli şekillerde tek veya çift elle kendi takım arkadaşlarına aktarılmasıdı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erden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09640" y="2214720"/>
          <a:ext cx="444672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2214720"/>
                    <a:ext cx="44467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 pas verilecek kişi ile kendi aramızdaki mesafenin 2/3 civarında zemine vurularak pas verili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366"/>
                </a:solidFill>
                <a:latin typeface="Times New Roman"/>
              </a:rPr>
              <a:t>Baseball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838080" y="1295280"/>
          <a:ext cx="15242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15242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2666880" y="1523880"/>
            <a:ext cx="221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p göğüs hizasında omuz üstünde kulak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izasına getiril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724280" y="1371600"/>
          <a:ext cx="14479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371600"/>
                    <a:ext cx="1447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85800" y="3962520"/>
          <a:ext cx="2209680" cy="18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962520"/>
                    <a:ext cx="2209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477120" y="15238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özler hedefte sol el çekilmiş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ücut ağırlığı sol ayak üstünded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403848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ol hedefe doğru ve dü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114800" y="3505320"/>
          <a:ext cx="1905120" cy="22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3505320"/>
                    <a:ext cx="190512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172200" y="3352680"/>
            <a:ext cx="261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rmaklar açık, el top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kasından kavramış. Sağ ayak hafif kaldırılır, sonra öne doğru gider. Top bileğin hareketi ile elden çıkar.Dirsek pası alana dönük. Sol el,Dengenin ve topun korunması için kullanılmış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öğüs Pası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62120" y="2209680"/>
          <a:ext cx="76960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6960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09480" y="4419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irsekler vücuda yakın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Kollar öne uzanırken        Top kuvvetli bilek hareket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u tutarken kendinizi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         ile elden çıkartılı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ıkmayın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ş Üstü P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981080"/>
          <a:ext cx="8229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219320" y="4267080"/>
          <a:ext cx="640080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6400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28600" y="32004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Parmaklar topun alt yan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Bilekler geride kollar hafif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 açık pas yolundan atılı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arafından kavranmış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şağı uzatılırken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 bilekten aşağı doğru itilere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üşürülmesiyle parmakları terk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eder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7680" y="5942160"/>
            <a:ext cx="82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 iki eller baş üstünde dirsekler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vuç içleri pas sonrası yeri gösterir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bükülü vücut dik ve rahat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Pozisyona göre sıçrayarak veya ön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dım atarak bu pası verebilirsiniz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kadan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2057400"/>
          <a:ext cx="85341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534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304920" y="4572000"/>
            <a:ext cx="85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66"/>
                </a:solidFill>
                <a:latin typeface="Times New Roman"/>
              </a:rPr>
              <a:t>Dribbling esnasında sol ayak öne Doğru atılırken top arkaya alınır ve bilek hareketi ile pas verilir.</a:t>
            </a:r>
            <a:r>
              <a:rPr b="1" lang="tr-TR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k El Alttan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 orta parmakların üzerinden yuvarlanarak eli terk ed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876920" y="2819520"/>
          <a:ext cx="390024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19520"/>
                    <a:ext cx="39002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49:24Z</dcterms:created>
  <dc:creator>BURAK ATLAY</dc:creator>
  <dc:description/>
  <dc:language>en-US</dc:language>
  <cp:lastModifiedBy>BURAK ATLAY</cp:lastModifiedBy>
  <dcterms:modified xsi:type="dcterms:W3CDTF">2002-11-18T20:04:46Z</dcterms:modified>
  <cp:revision>11</cp:revision>
  <dc:subject/>
  <dc:title>TOP TUTMA</dc:title>
</cp:coreProperties>
</file>